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3.jpeg" ContentType="image/jpe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D2D-C091-4C16-9594-5BADB011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357-A2CD-4591-B12A-27B5CCB4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E58-7891-48A3-82AE-E259E3B7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BCB-2DC5-480E-91B5-4038B6B2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E462-22D9-445F-95B7-47157DD3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0CF7-A119-495C-A743-8FADD6C3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FFEA-F99F-46D0-9C40-620605AB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0C97-2D01-4995-95FC-429F9C9A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160D-C871-4937-A434-F829742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D7C9-807B-4639-8834-DC3B97F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3A1E-EBBB-4EBB-8F48-3E6E571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C30-B74A-4CB0-BE05-ADE498FE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BF2-844F-4BC5-89AD-08965897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D0AF-BB5E-4A82-A413-11C1F25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A96-3D57-41FE-9D59-960D0C25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B37F-04DD-4C7A-8058-99FB599A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30EB-B90A-48AF-B72E-FB07EE98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4E1-2B39-408F-B2D9-8A4AF04A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4E2-5CD7-410D-9821-C58444BF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A35-5D1D-4D7A-AB35-9E322D6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53B-29F4-4FE0-A1E6-DD823C2C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CB1-9C93-4E61-91BF-3B023308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295-A6F2-4F74-B285-457991C0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6CD-655B-4822-AD77-49881EF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360"/>
            <a:ext cx="2895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413-0DEC-4F65-A006-0B30991A1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1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raphics Interface, Victoria,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191-25B9-42A7-86E4-AA59E680B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649680"/>
            <a:ext cx="9144000" cy="19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ing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e Collomb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ick Baudisch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Mountaz Hascoët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Brian Lee, Stanford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Computer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7384" t="0" r="4747" b="0"/>
          <a:stretch/>
        </p:blipFill>
        <p:spPr>
          <a:xfrm>
            <a:off x="3348000" y="4046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sbee [Khan, UIST 04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3751560" cy="176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627372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64280" y="1197000"/>
            <a:ext cx="387972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3DA-30D0-43FD-8595-AFC1C0C3E77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ointers [Olsen 01, Myers 02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3432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279C-EFB3-461E-87E4-F96EA80EBE5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orBeam [Parker, in 30mi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93080" cy="30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5F4-243F-48F6-BA6E-D82EA54F61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throw [Hascoët, HCI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ograph princi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~go go technique [Poupyrev, UIST 96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BD9-271F-49F0-8ADF-E0143B1E32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AR [Nacenta,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graphs (lots of them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5646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126-86A6-4C80-AF55-BE2494C949E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ag-and-pop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Baudisch, INTERACT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279-2BDC-4393-A403-2FF596121D2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3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468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um [Bezerianos, 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7C5-94B4-4C20-9856-42DF729157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question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879-5998-49F3-8057-0A371AE023D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user to content (push-and-th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content to user (drag-and-p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just good old direct manipul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ick-and-drop)</a:t>
            </a:r>
            <a:br>
              <a:rPr sz="2800"/>
            </a:b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10F-F267-432E-801C-3C9E35C283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drag-and-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ymmetric targe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roxies appear in current display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-1668" b="-1352"/>
          <a:stretch/>
        </p:blipFill>
        <p:spPr>
          <a:xfrm>
            <a:off x="4284720" y="4365720"/>
            <a:ext cx="43196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D72-F29B-434D-A269-B8BEECA92C3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98480"/>
            <a:ext cx="9144000" cy="418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97040"/>
            <a:ext cx="9144000" cy="418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ush-and-pop: not quite a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6021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our demo from www.lirmm.fr/vag/dr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C8A-6140-4A7F-A130-4363AB9EAB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push-and-th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on-linear acce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emantic poin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down pointer over target [Blanch CHI 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F4D-73B9-450A-A1FA-2BCCEBDEEE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ait: maybe push-and-throw and drag-and-pop are not mutually exclusi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077-DC33-46A5-8D80-317950B371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drag-and-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targets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imprecision of push-and-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ush-and-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object centered take-off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arget set selection error of drag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23065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94600" y="2205000"/>
            <a:ext cx="2849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2F6-C8DA-4C21-A06B-D12D168010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E33-7568-4B5E-B912-B7CF354539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34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68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5ED-C3B8-4B4C-81D5-EAE4249AC9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16720" y="260280"/>
            <a:ext cx="3527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W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35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67280" y="2833560"/>
            <a:ext cx="5076720" cy="363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43700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displa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852640"/>
            <a:ext cx="5076720" cy="36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410A-3639-4749-AA1D-E6C08DF7DD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276640"/>
          <a:ext cx="8569080" cy="3622680"/>
        </p:xfrm>
        <a:graphic>
          <a:graphicData uri="http://schemas.openxmlformats.org/drawingml/2006/table">
            <a:tbl>
              <a:tblPr/>
              <a:tblGrid>
                <a:gridCol w="2828880"/>
                <a:gridCol w="25002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ech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ed to reor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ick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ush-and-th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ccelerated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O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sh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e, later 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08000" y="278136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3860640"/>
            <a:ext cx="8856720" cy="1008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86900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3B4-05E1-4CEE-932F-7D29192F9AD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ging icons into target i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mulated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3 tim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 times o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6 / 288 trials for each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87C-45A5-4511-9D6C-A37C98EC9C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2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20720" y="1474920"/>
            <a:ext cx="6337440" cy="3429000"/>
          </a:xfrm>
          <a:custGeom>
            <a:avLst/>
            <a:gdLst/>
            <a:ahLst/>
            <a:rect l="l" t="t" r="r" b="b"/>
            <a:pathLst>
              <a:path w="3992" h="2160">
                <a:moveTo>
                  <a:pt x="208" y="1836"/>
                </a:moveTo>
                <a:cubicBezTo>
                  <a:pt x="369" y="1795"/>
                  <a:pt x="923" y="1906"/>
                  <a:pt x="1129" y="1843"/>
                </a:cubicBezTo>
                <a:cubicBezTo>
                  <a:pt x="1335" y="1780"/>
                  <a:pt x="1335" y="1675"/>
                  <a:pt x="1444" y="1459"/>
                </a:cubicBezTo>
                <a:cubicBezTo>
                  <a:pt x="1553" y="1243"/>
                  <a:pt x="1559" y="766"/>
                  <a:pt x="1782" y="546"/>
                </a:cubicBezTo>
                <a:cubicBezTo>
                  <a:pt x="2005" y="326"/>
                  <a:pt x="2488" y="209"/>
                  <a:pt x="2781" y="139"/>
                </a:cubicBezTo>
                <a:cubicBezTo>
                  <a:pt x="3074" y="69"/>
                  <a:pt x="3381" y="0"/>
                  <a:pt x="3541" y="123"/>
                </a:cubicBezTo>
                <a:cubicBezTo>
                  <a:pt x="3701" y="246"/>
                  <a:pt x="3992" y="733"/>
                  <a:pt x="3741" y="876"/>
                </a:cubicBezTo>
                <a:cubicBezTo>
                  <a:pt x="3490" y="1019"/>
                  <a:pt x="2395" y="848"/>
                  <a:pt x="2036" y="983"/>
                </a:cubicBezTo>
                <a:cubicBezTo>
                  <a:pt x="1677" y="1118"/>
                  <a:pt x="1730" y="1500"/>
                  <a:pt x="1587" y="1685"/>
                </a:cubicBezTo>
                <a:cubicBezTo>
                  <a:pt x="1444" y="1870"/>
                  <a:pt x="1416" y="2026"/>
                  <a:pt x="1179" y="2093"/>
                </a:cubicBezTo>
                <a:cubicBezTo>
                  <a:pt x="942" y="2160"/>
                  <a:pt x="324" y="2132"/>
                  <a:pt x="162" y="2089"/>
                </a:cubicBezTo>
                <a:cubicBezTo>
                  <a:pt x="0" y="2046"/>
                  <a:pt x="47" y="1877"/>
                  <a:pt x="208" y="183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2800" y="3370320"/>
            <a:ext cx="6505560" cy="1539720"/>
          </a:xfrm>
          <a:custGeom>
            <a:avLst/>
            <a:gdLst/>
            <a:ahLst/>
            <a:rect l="l" t="t" r="r" b="b"/>
            <a:pathLst>
              <a:path w="4098" h="970">
                <a:moveTo>
                  <a:pt x="267" y="519"/>
                </a:moveTo>
                <a:cubicBezTo>
                  <a:pt x="338" y="448"/>
                  <a:pt x="493" y="490"/>
                  <a:pt x="599" y="486"/>
                </a:cubicBezTo>
                <a:cubicBezTo>
                  <a:pt x="705" y="482"/>
                  <a:pt x="743" y="552"/>
                  <a:pt x="904" y="496"/>
                </a:cubicBezTo>
                <a:cubicBezTo>
                  <a:pt x="1065" y="440"/>
                  <a:pt x="1410" y="177"/>
                  <a:pt x="1567" y="148"/>
                </a:cubicBezTo>
                <a:cubicBezTo>
                  <a:pt x="1724" y="119"/>
                  <a:pt x="1747" y="308"/>
                  <a:pt x="1849" y="319"/>
                </a:cubicBezTo>
                <a:cubicBezTo>
                  <a:pt x="1951" y="330"/>
                  <a:pt x="2073" y="209"/>
                  <a:pt x="2179" y="212"/>
                </a:cubicBezTo>
                <a:cubicBezTo>
                  <a:pt x="2285" y="215"/>
                  <a:pt x="2388" y="333"/>
                  <a:pt x="2486" y="335"/>
                </a:cubicBezTo>
                <a:cubicBezTo>
                  <a:pt x="2584" y="337"/>
                  <a:pt x="2611" y="282"/>
                  <a:pt x="2770" y="227"/>
                </a:cubicBezTo>
                <a:cubicBezTo>
                  <a:pt x="2929" y="172"/>
                  <a:pt x="3287" y="10"/>
                  <a:pt x="3439" y="5"/>
                </a:cubicBezTo>
                <a:cubicBezTo>
                  <a:pt x="3591" y="0"/>
                  <a:pt x="3627" y="103"/>
                  <a:pt x="3684" y="196"/>
                </a:cubicBezTo>
                <a:cubicBezTo>
                  <a:pt x="3741" y="289"/>
                  <a:pt x="4098" y="492"/>
                  <a:pt x="3784" y="565"/>
                </a:cubicBezTo>
                <a:cubicBezTo>
                  <a:pt x="3470" y="638"/>
                  <a:pt x="2210" y="582"/>
                  <a:pt x="1797" y="632"/>
                </a:cubicBezTo>
                <a:cubicBezTo>
                  <a:pt x="1384" y="682"/>
                  <a:pt x="1578" y="819"/>
                  <a:pt x="1307" y="866"/>
                </a:cubicBezTo>
                <a:cubicBezTo>
                  <a:pt x="1036" y="913"/>
                  <a:pt x="346" y="970"/>
                  <a:pt x="173" y="912"/>
                </a:cubicBezTo>
                <a:cubicBezTo>
                  <a:pt x="0" y="854"/>
                  <a:pt x="196" y="590"/>
                  <a:pt x="267" y="51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600" y="4246560"/>
            <a:ext cx="6465600" cy="649440"/>
          </a:xfrm>
          <a:custGeom>
            <a:avLst/>
            <a:gdLst/>
            <a:ahLst/>
            <a:rect l="l" t="t" r="r" b="b"/>
            <a:pathLst>
              <a:path w="4073" h="409">
                <a:moveTo>
                  <a:pt x="0" y="366"/>
                </a:moveTo>
                <a:cubicBezTo>
                  <a:pt x="559" y="409"/>
                  <a:pt x="2853" y="403"/>
                  <a:pt x="3463" y="351"/>
                </a:cubicBezTo>
                <a:cubicBezTo>
                  <a:pt x="4073" y="299"/>
                  <a:pt x="3698" y="102"/>
                  <a:pt x="3663" y="51"/>
                </a:cubicBezTo>
                <a:cubicBezTo>
                  <a:pt x="3628" y="0"/>
                  <a:pt x="3378" y="27"/>
                  <a:pt x="3256" y="44"/>
                </a:cubicBezTo>
                <a:cubicBezTo>
                  <a:pt x="3134" y="61"/>
                  <a:pt x="3130" y="151"/>
                  <a:pt x="2933" y="151"/>
                </a:cubicBezTo>
                <a:cubicBezTo>
                  <a:pt x="2736" y="151"/>
                  <a:pt x="2328" y="50"/>
                  <a:pt x="2073" y="44"/>
                </a:cubicBezTo>
                <a:cubicBezTo>
                  <a:pt x="1818" y="38"/>
                  <a:pt x="1663" y="93"/>
                  <a:pt x="1405" y="113"/>
                </a:cubicBezTo>
                <a:cubicBezTo>
                  <a:pt x="1147" y="133"/>
                  <a:pt x="738" y="171"/>
                  <a:pt x="522" y="167"/>
                </a:cubicBezTo>
                <a:cubicBezTo>
                  <a:pt x="306" y="163"/>
                  <a:pt x="194" y="57"/>
                  <a:pt x="107" y="90"/>
                </a:cubicBezTo>
                <a:cubicBezTo>
                  <a:pt x="20" y="123"/>
                  <a:pt x="22" y="309"/>
                  <a:pt x="0" y="36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860640"/>
            <a:ext cx="43164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557360"/>
            <a:ext cx="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DBC-0FDC-42B0-BC6B-DEF30FDD490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293080" cy="4233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386064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13192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50864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1156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E61-CBAE-4B35-A79D-39A2F12C56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mes ahea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9D4-1209-4D53-AA74-7F256E9DE2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08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73360"/>
            <a:ext cx="2592360" cy="503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2349360"/>
            <a:ext cx="259236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4365720"/>
            <a:ext cx="2592360" cy="107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9BF-8105-49CF-9EBA-FE75BD62861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d same study on 3-unit displa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0" y="2860560"/>
            <a:ext cx="47512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8EB-68B1-4703-8E39-7F3303ECB1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297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8280" y="1544760"/>
            <a:ext cx="6659640" cy="3468600"/>
          </a:xfrm>
          <a:custGeom>
            <a:avLst/>
            <a:gdLst/>
            <a:ahLst/>
            <a:rect l="l" t="t" r="r" b="b"/>
            <a:pathLst>
              <a:path w="4195" h="2185">
                <a:moveTo>
                  <a:pt x="321" y="2153"/>
                </a:moveTo>
                <a:cubicBezTo>
                  <a:pt x="413" y="2134"/>
                  <a:pt x="492" y="2012"/>
                  <a:pt x="651" y="1999"/>
                </a:cubicBezTo>
                <a:cubicBezTo>
                  <a:pt x="810" y="1986"/>
                  <a:pt x="1117" y="2128"/>
                  <a:pt x="1274" y="2076"/>
                </a:cubicBezTo>
                <a:cubicBezTo>
                  <a:pt x="1431" y="2024"/>
                  <a:pt x="1426" y="1743"/>
                  <a:pt x="1593" y="1686"/>
                </a:cubicBezTo>
                <a:cubicBezTo>
                  <a:pt x="1760" y="1629"/>
                  <a:pt x="2100" y="1738"/>
                  <a:pt x="2274" y="1731"/>
                </a:cubicBezTo>
                <a:cubicBezTo>
                  <a:pt x="2448" y="1724"/>
                  <a:pt x="2526" y="1736"/>
                  <a:pt x="2637" y="1641"/>
                </a:cubicBezTo>
                <a:cubicBezTo>
                  <a:pt x="2748" y="1546"/>
                  <a:pt x="2834" y="1230"/>
                  <a:pt x="2940" y="1162"/>
                </a:cubicBezTo>
                <a:cubicBezTo>
                  <a:pt x="3046" y="1094"/>
                  <a:pt x="3096" y="1228"/>
                  <a:pt x="3272" y="1232"/>
                </a:cubicBezTo>
                <a:cubicBezTo>
                  <a:pt x="3448" y="1236"/>
                  <a:pt x="3877" y="1368"/>
                  <a:pt x="3998" y="1187"/>
                </a:cubicBezTo>
                <a:cubicBezTo>
                  <a:pt x="4119" y="1006"/>
                  <a:pt x="4195" y="288"/>
                  <a:pt x="3998" y="144"/>
                </a:cubicBezTo>
                <a:cubicBezTo>
                  <a:pt x="3801" y="0"/>
                  <a:pt x="3066" y="181"/>
                  <a:pt x="2818" y="325"/>
                </a:cubicBezTo>
                <a:cubicBezTo>
                  <a:pt x="2570" y="469"/>
                  <a:pt x="2661" y="902"/>
                  <a:pt x="2510" y="1008"/>
                </a:cubicBezTo>
                <a:cubicBezTo>
                  <a:pt x="2359" y="1114"/>
                  <a:pt x="2080" y="940"/>
                  <a:pt x="1911" y="960"/>
                </a:cubicBezTo>
                <a:cubicBezTo>
                  <a:pt x="1742" y="980"/>
                  <a:pt x="1623" y="1001"/>
                  <a:pt x="1496" y="1131"/>
                </a:cubicBezTo>
                <a:cubicBezTo>
                  <a:pt x="1369" y="1261"/>
                  <a:pt x="1371" y="1638"/>
                  <a:pt x="1151" y="1738"/>
                </a:cubicBezTo>
                <a:cubicBezTo>
                  <a:pt x="931" y="1838"/>
                  <a:pt x="350" y="1667"/>
                  <a:pt x="175" y="1730"/>
                </a:cubicBezTo>
                <a:cubicBezTo>
                  <a:pt x="0" y="1793"/>
                  <a:pt x="75" y="2043"/>
                  <a:pt x="99" y="2114"/>
                </a:cubicBezTo>
                <a:cubicBezTo>
                  <a:pt x="123" y="2185"/>
                  <a:pt x="246" y="2164"/>
                  <a:pt x="321" y="2153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4680" y="2128680"/>
            <a:ext cx="6549840" cy="1870200"/>
          </a:xfrm>
          <a:custGeom>
            <a:avLst/>
            <a:gdLst/>
            <a:ahLst/>
            <a:rect l="l" t="t" r="r" b="b"/>
            <a:pathLst>
              <a:path w="4126" h="1178">
                <a:moveTo>
                  <a:pt x="227" y="1155"/>
                </a:moveTo>
                <a:cubicBezTo>
                  <a:pt x="310" y="1178"/>
                  <a:pt x="493" y="932"/>
                  <a:pt x="609" y="910"/>
                </a:cubicBezTo>
                <a:cubicBezTo>
                  <a:pt x="725" y="888"/>
                  <a:pt x="767" y="1011"/>
                  <a:pt x="926" y="1024"/>
                </a:cubicBezTo>
                <a:cubicBezTo>
                  <a:pt x="1085" y="1037"/>
                  <a:pt x="1325" y="1004"/>
                  <a:pt x="1563" y="986"/>
                </a:cubicBezTo>
                <a:cubicBezTo>
                  <a:pt x="1801" y="968"/>
                  <a:pt x="2134" y="985"/>
                  <a:pt x="2354" y="917"/>
                </a:cubicBezTo>
                <a:cubicBezTo>
                  <a:pt x="2574" y="849"/>
                  <a:pt x="2714" y="625"/>
                  <a:pt x="2884" y="579"/>
                </a:cubicBezTo>
                <a:cubicBezTo>
                  <a:pt x="3054" y="533"/>
                  <a:pt x="3244" y="658"/>
                  <a:pt x="3376" y="638"/>
                </a:cubicBezTo>
                <a:cubicBezTo>
                  <a:pt x="3508" y="618"/>
                  <a:pt x="3561" y="463"/>
                  <a:pt x="3675" y="456"/>
                </a:cubicBezTo>
                <a:cubicBezTo>
                  <a:pt x="3789" y="449"/>
                  <a:pt x="3995" y="639"/>
                  <a:pt x="4059" y="594"/>
                </a:cubicBezTo>
                <a:cubicBezTo>
                  <a:pt x="4123" y="549"/>
                  <a:pt x="4126" y="281"/>
                  <a:pt x="4057" y="184"/>
                </a:cubicBezTo>
                <a:cubicBezTo>
                  <a:pt x="3988" y="87"/>
                  <a:pt x="3765" y="0"/>
                  <a:pt x="3644" y="11"/>
                </a:cubicBezTo>
                <a:cubicBezTo>
                  <a:pt x="3523" y="22"/>
                  <a:pt x="3463" y="235"/>
                  <a:pt x="3329" y="249"/>
                </a:cubicBezTo>
                <a:cubicBezTo>
                  <a:pt x="3195" y="263"/>
                  <a:pt x="2962" y="98"/>
                  <a:pt x="2838" y="95"/>
                </a:cubicBezTo>
                <a:cubicBezTo>
                  <a:pt x="2714" y="92"/>
                  <a:pt x="2685" y="170"/>
                  <a:pt x="2584" y="233"/>
                </a:cubicBezTo>
                <a:cubicBezTo>
                  <a:pt x="2483" y="296"/>
                  <a:pt x="2338" y="453"/>
                  <a:pt x="2231" y="471"/>
                </a:cubicBezTo>
                <a:cubicBezTo>
                  <a:pt x="2124" y="489"/>
                  <a:pt x="2043" y="321"/>
                  <a:pt x="1939" y="341"/>
                </a:cubicBezTo>
                <a:cubicBezTo>
                  <a:pt x="1835" y="361"/>
                  <a:pt x="1782" y="623"/>
                  <a:pt x="1607" y="592"/>
                </a:cubicBezTo>
                <a:cubicBezTo>
                  <a:pt x="1432" y="561"/>
                  <a:pt x="1136" y="127"/>
                  <a:pt x="887" y="157"/>
                </a:cubicBezTo>
                <a:cubicBezTo>
                  <a:pt x="638" y="187"/>
                  <a:pt x="220" y="608"/>
                  <a:pt x="110" y="774"/>
                </a:cubicBezTo>
                <a:cubicBezTo>
                  <a:pt x="0" y="940"/>
                  <a:pt x="144" y="1132"/>
                  <a:pt x="227" y="1155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0040" y="3633840"/>
            <a:ext cx="6496200" cy="1192320"/>
          </a:xfrm>
          <a:custGeom>
            <a:avLst/>
            <a:gdLst/>
            <a:ahLst/>
            <a:rect l="l" t="t" r="r" b="b"/>
            <a:pathLst>
              <a:path w="4092" h="751">
                <a:moveTo>
                  <a:pt x="115" y="699"/>
                </a:moveTo>
                <a:cubicBezTo>
                  <a:pt x="229" y="751"/>
                  <a:pt x="351" y="707"/>
                  <a:pt x="822" y="706"/>
                </a:cubicBezTo>
                <a:cubicBezTo>
                  <a:pt x="1293" y="705"/>
                  <a:pt x="2419" y="717"/>
                  <a:pt x="2942" y="691"/>
                </a:cubicBezTo>
                <a:cubicBezTo>
                  <a:pt x="3465" y="665"/>
                  <a:pt x="3828" y="642"/>
                  <a:pt x="3960" y="551"/>
                </a:cubicBezTo>
                <a:cubicBezTo>
                  <a:pt x="4092" y="460"/>
                  <a:pt x="3860" y="224"/>
                  <a:pt x="3733" y="146"/>
                </a:cubicBezTo>
                <a:cubicBezTo>
                  <a:pt x="3606" y="68"/>
                  <a:pt x="3336" y="82"/>
                  <a:pt x="3195" y="84"/>
                </a:cubicBezTo>
                <a:cubicBezTo>
                  <a:pt x="3054" y="86"/>
                  <a:pt x="3001" y="170"/>
                  <a:pt x="2888" y="161"/>
                </a:cubicBezTo>
                <a:cubicBezTo>
                  <a:pt x="2775" y="152"/>
                  <a:pt x="2625" y="33"/>
                  <a:pt x="2519" y="30"/>
                </a:cubicBezTo>
                <a:cubicBezTo>
                  <a:pt x="2413" y="27"/>
                  <a:pt x="2366" y="145"/>
                  <a:pt x="2250" y="146"/>
                </a:cubicBezTo>
                <a:cubicBezTo>
                  <a:pt x="2134" y="147"/>
                  <a:pt x="2048" y="0"/>
                  <a:pt x="1820" y="38"/>
                </a:cubicBezTo>
                <a:cubicBezTo>
                  <a:pt x="1592" y="76"/>
                  <a:pt x="1163" y="317"/>
                  <a:pt x="883" y="376"/>
                </a:cubicBezTo>
                <a:cubicBezTo>
                  <a:pt x="603" y="435"/>
                  <a:pt x="266" y="337"/>
                  <a:pt x="138" y="391"/>
                </a:cubicBezTo>
                <a:cubicBezTo>
                  <a:pt x="10" y="445"/>
                  <a:pt x="0" y="650"/>
                  <a:pt x="115" y="69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21000"/>
            <a:ext cx="0" cy="27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FA9D-8CC0-410B-925C-798E7A00A91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20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53750" b="3068"/>
          <a:stretch/>
        </p:blipFill>
        <p:spPr>
          <a:xfrm>
            <a:off x="1619280" y="1630440"/>
            <a:ext cx="244800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40360" y="3571920"/>
            <a:ext cx="2232000" cy="504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83F-EB23-460B-8645-4068BF38150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3800" cy="4289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2864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DB8-5F87-4EFE-8964-A984B7F39C7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s well on single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pointer-to-target technique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. push-and-thr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improvements were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sh-and-p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erformed all other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3A1-7506-4EFE-A09B-EF4CEAEEABE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bring content to the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ink: this is because the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nim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 users to reorient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D77-546C-4C1A-AB73-F89E16B730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e de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18508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E42-47FB-4DC4-8C4A-93F21FD4C5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6156360" cy="37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916360" cy="195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E9D-11C5-4489-B7C2-6013F9AD27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ountaz &amp;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demo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lirmm.fr/vag/dra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776-0169-4CBE-A4F7-6C945103DF8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ing on wall-size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of exist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ing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throw &amp; drag-and-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of both worlds: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-and-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24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09A-DF8E-48D1-B9DB-030417E480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In case of »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rubber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one rubber band (current selected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desktop layout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rooms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ing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47D-EF81-47D7-8219-77A46DD228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321-A51D-4FB3-9660-E627EBF2895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sh-and-pop with rubber b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D15-AE44-4D57-A39D-CC92C578353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667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334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pop with one rubber band (current selected targ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8793-E82F-4C9C-B6D2-49DF29AE2DB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334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68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blocks of 1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action techniq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esktop layo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sources and targets (different positions for each tr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ource and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160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display and mouse w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373-43A7-4DCF-AB83-2FF128A781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ing menus [Kurtenbach, CHI 9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442764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93236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E63-38A6-49D4-8CDD-AFD79FBA93A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wasn’t significant between the 2 desktop 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70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56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4572000" cy="3087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377028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CAC-F9EA-4085-9164-B3D9529F5D0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: Tableclo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5800" y="3505320"/>
            <a:ext cx="7314480" cy="2316600"/>
            <a:chOff x="685800" y="3505320"/>
            <a:chExt cx="7314480" cy="23166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85800" y="3505320"/>
              <a:ext cx="7314480" cy="1951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714480" y="4373640"/>
              <a:ext cx="96732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8737-814C-45C7-857E-AA5D4F9E74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ed surfaces are more and more 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board 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4642" t="0" r="0" b="0"/>
          <a:stretch/>
        </p:blipFill>
        <p:spPr>
          <a:xfrm>
            <a:off x="6721560" y="3716280"/>
            <a:ext cx="2422440" cy="24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8428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A04-1EEB-4CC3-BA4C-9052B18FC9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1206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roblems with pen&amp;to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58136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not be able to reac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y be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els not touc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18F-CB84-46AF-8682-08DF65E255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lated wor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(RSVP version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C57-55C4-474A-B75E-A2A13EDCC4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-and-d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-and-drop [Rekimoto, 97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-and-put [Geißler, 98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14332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D24-06D6-4EA3-8FBF-BD2FB2C16C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3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68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dragging [Rekimoto, CHI 99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6676" t="9898" r="24390" b="20929"/>
          <a:stretch/>
        </p:blipFill>
        <p:spPr>
          <a:xfrm>
            <a:off x="6443640" y="386064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20B-D09F-4135-B81C-05E4F616A4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7:58:37Z</dcterms:created>
  <dc:creator>collomb</dc:creator>
  <dc:description/>
  <dc:language>en-US</dc:language>
  <cp:lastModifiedBy>collomb</cp:lastModifiedBy>
  <dcterms:modified xsi:type="dcterms:W3CDTF">2005-05-09T08:35:04Z</dcterms:modified>
  <cp:revision>57</cp:revision>
  <dc:subject/>
  <dc:title>Diapositive 1</dc:title>
</cp:coreProperties>
</file>